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4732870"/>
        <c:axId val="56486906"/>
      </c:barChart>
      <c:catAx>
        <c:axId val="3473287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486906"/>
        <c:crosses val="autoZero"/>
        <c:auto val="1"/>
        <c:lblAlgn val="ctr"/>
        <c:lblOffset val="100"/>
        <c:noMultiLvlLbl val="0"/>
      </c:catAx>
      <c:valAx>
        <c:axId val="5648690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73287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34C63-C491-4941-9CE1-686BC76BC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6CE85-F8F3-4EA2-B1BB-1185379FD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5330C-F212-4764-A88E-BBEC6B852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35805-0F18-4808-9021-2045A0B87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920F6-F7C1-4BE7-8AD5-C3207941F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6DB98-419A-4DCD-A609-61A6F49AD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F502D-0236-4E3C-850A-4B3BC8477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B5056-AC10-438C-B0BF-60D346964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6212B-1416-4AF7-9A1B-2AE52A4F6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DED7B-B043-4190-AFD6-B4895A882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B7CD9-6CB5-4A89-9EB6-4321815EE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1607B-FC72-46EE-9E6F-C260EBBB5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21E971-8288-403F-B97C-F2DD99BD046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